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F50-784F-48EB-890A-57601B46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8FE-2103-4A42-BF78-984F071B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6FD-6041-43A8-84B2-F7943FCF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AAA-B637-42BD-9761-231956FC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3FE-0331-405C-A221-98E0030D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395-BD10-49F2-8B4C-5E23DD48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9BF-2FB2-4DAF-B8CF-1289D9BB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EC8C-6ABA-449A-8E44-D0998235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DEF-A49A-4631-9BA1-2A1DB980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11F-6B17-49BD-A32A-342A28D3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54C-4460-4937-98E1-237E0197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F90-B1D4-4BA0-BEDF-2CB5079B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5A4E-C3DE-45E0-AD1F-E0B7A8660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4 de marz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47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Miras la copa mundial de fu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copa mund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ren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4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50496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 flipH="1">
            <a:off x="990360" y="2590920"/>
            <a:ext cx="114300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581280" y="1981080"/>
            <a:ext cx="0" cy="2895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 flipH="1">
            <a:off x="3352320" y="198108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 flipH="1">
            <a:off x="3352320" y="487692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209680" y="58672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657600" cy="2701800"/>
          </a:xfrm>
          <a:prstGeom prst="rect">
            <a:avLst/>
          </a:prstGeom>
          <a:ln w="0">
            <a:noFill/>
          </a:ln>
        </p:spPr>
      </p:pic>
      <p:sp>
        <p:nvSpPr>
          <p:cNvPr id="51" name="Line 10"/>
          <p:cNvSpPr/>
          <p:nvPr/>
        </p:nvSpPr>
        <p:spPr>
          <a:xfrm flipV="1">
            <a:off x="6172200" y="1904760"/>
            <a:ext cx="990720" cy="6094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5790960" y="365760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7162920" y="3657600"/>
            <a:ext cx="53316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7147080" y="2246400"/>
            <a:ext cx="549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0200" y="2666880"/>
            <a:ext cx="13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575520" y="2057400"/>
            <a:ext cx="176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er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838080" y="6278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 esque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7139880" y="1371600"/>
            <a:ext cx="185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mús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133600" y="3962520"/>
            <a:ext cx="164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tend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7315560" y="3962520"/>
            <a:ext cx="13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19320" y="558720"/>
            <a:ext cx="6629400" cy="5308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 rot="16200000">
            <a:off x="6188760" y="4326480"/>
            <a:ext cx="19810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 rot="5400000">
            <a:off x="1310760" y="2727000"/>
            <a:ext cx="549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 rot="5400000">
            <a:off x="1575360" y="3328560"/>
            <a:ext cx="1447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5029200" y="2514600"/>
            <a:ext cx="1219320" cy="2209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581280" y="2666880"/>
            <a:ext cx="2590920" cy="1981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 flipH="1">
            <a:off x="2209680" y="2590920"/>
            <a:ext cx="236232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324480" y="45720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os pul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441440" y="4495680"/>
            <a:ext cx="185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coraz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rsonajes latinos famos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ren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5 (3 sentences per player in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anatom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6-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7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57200" y="338292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6:01:58Z</dcterms:created>
  <dc:creator>Helen Zumaeta</dc:creator>
  <dc:description/>
  <dc:language>en-US</dc:language>
  <cp:lastModifiedBy>Helen Zumaeta</cp:lastModifiedBy>
  <dcterms:modified xsi:type="dcterms:W3CDTF">2013-02-27T14:28:32Z</dcterms:modified>
  <cp:revision>5</cp:revision>
  <dc:subject/>
  <dc:title>Me llamo ________ Clase 6nh/il La fecha es el 20 de junio del 2011</dc:title>
</cp:coreProperties>
</file>